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DBF3-0469-4E6F-85BA-64752D167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148B-4FD4-43BE-8344-BFFF6E8E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80BE-4A4A-4674-8221-3A7976CBE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03CC-A5BB-4D5D-8728-6378F2CA4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AF3B-3558-4ABE-9C2F-8D7A77C4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1E12-68F9-441F-BA62-F6B83119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83B5-3C5D-4569-8258-A2439B3A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4F42-6955-4412-9DCB-B1F9A59B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9FEE-E669-40DB-9EEC-3FC05177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B15B-8495-4E0E-8256-F025041C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29B1-2FA7-4921-A636-D7BEE17A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16AE-485E-449B-8495-67ABBD03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4DAC-78F9-40D4-AEE0-9A0A6ADED747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a organización de Españ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4 Imagen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4898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os límites de Españ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3 Imagen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7061040" cy="510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22320" y="-20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apa físico de Españ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3 Imagen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064360" cy="5183280"/>
          </a:xfrm>
          <a:prstGeom prst="rect">
            <a:avLst/>
          </a:prstGeom>
          <a:ln w="0">
            <a:noFill/>
          </a:ln>
        </p:spPr>
      </p:pic>
      <p:sp>
        <p:nvSpPr>
          <p:cNvPr id="47" name="4 CuadroTexto"/>
          <p:cNvSpPr/>
          <p:nvPr/>
        </p:nvSpPr>
        <p:spPr>
          <a:xfrm>
            <a:off x="2316600" y="6375240"/>
            <a:ext cx="1448640" cy="3682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Juego de río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5 CuadroTexto"/>
          <p:cNvSpPr/>
          <p:nvPr/>
        </p:nvSpPr>
        <p:spPr>
          <a:xfrm>
            <a:off x="4650120" y="6375240"/>
            <a:ext cx="1729080" cy="3682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Juego de Relie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812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paña forma parte de Europ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3 Imagen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7704000" cy="5886360"/>
          </a:xfrm>
          <a:prstGeom prst="rect">
            <a:avLst/>
          </a:prstGeom>
          <a:ln w="0">
            <a:noFill/>
          </a:ln>
        </p:spPr>
      </p:pic>
      <p:sp>
        <p:nvSpPr>
          <p:cNvPr id="51" name="4 CuadroTexto"/>
          <p:cNvSpPr/>
          <p:nvPr/>
        </p:nvSpPr>
        <p:spPr>
          <a:xfrm>
            <a:off x="7956360" y="5440320"/>
            <a:ext cx="1128600" cy="91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Jue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País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de Europ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paña es un país democrát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3 Imagen" descr=""/>
          <p:cNvPicPr/>
          <p:nvPr/>
        </p:nvPicPr>
        <p:blipFill>
          <a:blip r:embed="rId1"/>
          <a:stretch/>
        </p:blipFill>
        <p:spPr>
          <a:xfrm>
            <a:off x="0" y="757080"/>
            <a:ext cx="9144000" cy="5840640"/>
          </a:xfrm>
          <a:prstGeom prst="rect">
            <a:avLst/>
          </a:prstGeom>
          <a:ln w="0">
            <a:noFill/>
          </a:ln>
        </p:spPr>
      </p:pic>
      <p:sp>
        <p:nvSpPr>
          <p:cNvPr id="54" name="4 CuadroTexto"/>
          <p:cNvSpPr/>
          <p:nvPr/>
        </p:nvSpPr>
        <p:spPr>
          <a:xfrm>
            <a:off x="826920" y="1341360"/>
            <a:ext cx="36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Constitución españo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5 CuadroTexto"/>
          <p:cNvSpPr/>
          <p:nvPr/>
        </p:nvSpPr>
        <p:spPr>
          <a:xfrm>
            <a:off x="826920" y="1717560"/>
            <a:ext cx="37450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s la ley más importante de Españ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ue aprobada 6 de diciembre de 1978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stablece derechos y deberes de todos los ciudadano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+ derecho a la Educació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+ derecho a la no discriminación: sexo, religión 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ualquier otra condició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+ derecho a elegir nuestros representantes a partir de 18 año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stable deberes de los ciudadano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+ deber de cumplir las Ley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+ deber de pagar impuestos para contribuir a los gastos públicos como son: la Educación y la Sanida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7 CuadroTexto"/>
          <p:cNvSpPr/>
          <p:nvPr/>
        </p:nvSpPr>
        <p:spPr>
          <a:xfrm>
            <a:off x="4788000" y="1341360"/>
            <a:ext cx="367164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+ Establece como forma de gobierno: la Monarquía Parlamentaria: el Jefe del Estado es el Rey, y desde 2014 el rey es Felipe VI.</a:t>
            </a: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arlamentaria significa que la política del país no la dirige el Rey sino el Parlamento o Cortes Generales, formado por los representantes  elegidos por los ciudadanos en las elecciones generale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+ Recoge la organización del territorio español en municipios, provincias y comunidades autónoma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+ Se definen los símbolos del estado español: la bandera, el escudo y el himn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8 Imagen" descr=""/>
          <p:cNvPicPr/>
          <p:nvPr/>
        </p:nvPicPr>
        <p:blipFill>
          <a:blip r:embed="rId2"/>
          <a:stretch/>
        </p:blipFill>
        <p:spPr>
          <a:xfrm>
            <a:off x="4788000" y="4233960"/>
            <a:ext cx="2700360" cy="1434960"/>
          </a:xfrm>
          <a:prstGeom prst="rect">
            <a:avLst/>
          </a:prstGeom>
          <a:ln w="0">
            <a:noFill/>
          </a:ln>
        </p:spPr>
      </p:pic>
      <p:sp>
        <p:nvSpPr>
          <p:cNvPr id="58" name="9 CuadroTexto"/>
          <p:cNvSpPr/>
          <p:nvPr/>
        </p:nvSpPr>
        <p:spPr>
          <a:xfrm>
            <a:off x="7493760" y="45813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im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63272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La organización democrática de Españ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3 Imagen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3128760" cy="5400720"/>
          </a:xfrm>
          <a:prstGeom prst="rect">
            <a:avLst/>
          </a:prstGeom>
          <a:ln w="0">
            <a:noFill/>
          </a:ln>
        </p:spPr>
      </p:pic>
      <p:sp>
        <p:nvSpPr>
          <p:cNvPr id="61" name="4 CuadroTexto"/>
          <p:cNvSpPr/>
          <p:nvPr/>
        </p:nvSpPr>
        <p:spPr>
          <a:xfrm>
            <a:off x="4140360" y="981000"/>
            <a:ext cx="460836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Las Leyes Españolas son elaboradas por las </a:t>
            </a: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Cortes Generales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que están formadas por el Congreso y el Senad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on elegidas en las elecciones generales por el pueblo españo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l Congreso: sus miembros se llaman diputados y diputadas que se encargan de elaborar las leyes que afectan a todos los español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El Senado: sus miembros se llaman senadores y senadores, se encargan de asuntos relacionados con los territorios de Españ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El Gobierno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+ Se encarga de aplicar las leyes y dirigir la política del Estad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+ Está formado por el Presidente del Gobierno y los ministro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Los Juece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+ Se encargan de juzgar si se cumplen o no las ley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+ Los juicios se celebran en juzgados y tribunal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5 Imagen" descr=""/>
          <p:cNvPicPr/>
          <p:nvPr/>
        </p:nvPicPr>
        <p:blipFill>
          <a:blip r:embed="rId2"/>
          <a:stretch/>
        </p:blipFill>
        <p:spPr>
          <a:xfrm>
            <a:off x="7796160" y="58132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5T17:16:35Z</dcterms:created>
  <dc:creator>familia garcia</dc:creator>
  <dc:description/>
  <dc:language>en-US</dc:language>
  <cp:lastModifiedBy> </cp:lastModifiedBy>
  <dcterms:modified xsi:type="dcterms:W3CDTF">2015-05-03T22:07:51Z</dcterms:modified>
  <cp:revision>10</cp:revision>
  <dc:subject/>
  <dc:title>La organización de España</dc:title>
</cp:coreProperties>
</file>